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à coins arrondis 6"/>
          <p:cNvSpPr/>
          <p:nvPr/>
        </p:nvSpPr>
        <p:spPr>
          <a:xfrm>
            <a:off x="4857840" y="6357960"/>
            <a:ext cx="36432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5e0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11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Arial"/>
              </a:rPr>
              <a:t>www.europeanschoolnet.org -  www.eu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age 7" descr="logo_eun.jpg"/>
          <p:cNvPicPr/>
          <p:nvPr/>
        </p:nvPicPr>
        <p:blipFill>
          <a:blip r:embed="rId2"/>
          <a:stretch/>
        </p:blipFill>
        <p:spPr>
          <a:xfrm>
            <a:off x="4786200" y="2071800"/>
            <a:ext cx="3714840" cy="16462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800" spc="-1" strike="noStrike">
                <a:solidFill>
                  <a:srgbClr val="0177c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77c1"/>
                </a:solidFill>
                <a:latin typeface="Arial"/>
              </a:rPr>
              <a:t>28/01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428760" y="71280"/>
            <a:ext cx="721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177c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77c1"/>
                </a:solidFill>
                <a:latin typeface="Arial"/>
              </a:rPr>
              <a:t>Powerpoint template - Patricia Munoz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3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800" spc="-1" strike="noStrike">
                <a:solidFill>
                  <a:srgbClr val="0177c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77c1"/>
                </a:solidFill>
                <a:latin typeface="Arial"/>
              </a:rPr>
              <a:t>28/01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4"/>
          </p:nvPr>
        </p:nvSpPr>
        <p:spPr>
          <a:xfrm>
            <a:off x="428760" y="71280"/>
            <a:ext cx="721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177c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77c1"/>
                </a:solidFill>
                <a:latin typeface="Arial"/>
              </a:rPr>
              <a:t>Powerpoint template - Patricia Munoz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Rectangle 8" descr=""/>
          <p:cNvPicPr/>
          <p:nvPr/>
        </p:nvPicPr>
        <p:blipFill>
          <a:blip r:embed="rId1"/>
          <a:stretch/>
        </p:blipFill>
        <p:spPr>
          <a:xfrm>
            <a:off x="420840" y="1494000"/>
            <a:ext cx="7729560" cy="30589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 do we know from research 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Content Placeholder 6" descr=""/>
          <p:cNvPicPr/>
          <p:nvPr/>
        </p:nvPicPr>
        <p:blipFill>
          <a:blip r:embed="rId2"/>
          <a:stretch/>
        </p:blipFill>
        <p:spPr>
          <a:xfrm>
            <a:off x="420840" y="1547640"/>
            <a:ext cx="8242200" cy="4584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3"/>
          <a:stretch/>
        </p:blipFill>
        <p:spPr>
          <a:xfrm rot="6726600">
            <a:off x="411480" y="3348360"/>
            <a:ext cx="1517760" cy="1138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4"/>
          <a:stretch/>
        </p:blipFill>
        <p:spPr>
          <a:xfrm rot="462000">
            <a:off x="7142040" y="3168720"/>
            <a:ext cx="1517760" cy="113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480" y="1285560"/>
            <a:ext cx="83725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There is no clear answer to this question (see slide 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There is little research-based evidence on this 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The curriculum studies reviewed however, can help us conclude tha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- ICT/digital literacy is best integrated across the curriculum, rather than taught as a separate subject (see slide 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- there is a clear focus on the changes that need to be made to the general curriculum, specific subjects, school structures &amp; assessment, in order for students to be able to learn digital competence adequately in schools (see slide 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8115480" cy="69300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o clear answ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214280"/>
            <a:ext cx="83012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Straight Arrow Connector 5"/>
          <p:cNvCxnSpPr/>
          <p:nvPr/>
        </p:nvCxnSpPr>
        <p:spPr>
          <a:xfrm flipH="1">
            <a:off x="5571720" y="2857320"/>
            <a:ext cx="3578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8" name="Straight Arrow Connector 9"/>
          <p:cNvCxnSpPr/>
          <p:nvPr/>
        </p:nvCxnSpPr>
        <p:spPr>
          <a:xfrm>
            <a:off x="6999840" y="2786040"/>
            <a:ext cx="42948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9" name="Rounded Rectangle 11"/>
          <p:cNvSpPr/>
          <p:nvPr/>
        </p:nvSpPr>
        <p:spPr>
          <a:xfrm>
            <a:off x="4929120" y="1928880"/>
            <a:ext cx="328608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25"/>
          <p:cNvSpPr/>
          <p:nvPr/>
        </p:nvSpPr>
        <p:spPr>
          <a:xfrm>
            <a:off x="928800" y="1928880"/>
            <a:ext cx="285732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 about digital competence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7"/>
          <p:cNvSpPr/>
          <p:nvPr/>
        </p:nvSpPr>
        <p:spPr>
          <a:xfrm>
            <a:off x="5143680" y="1928880"/>
            <a:ext cx="28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Articles reviewed do not discuss question directly; rather they discu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30"/>
          <p:cNvSpPr/>
          <p:nvPr/>
        </p:nvSpPr>
        <p:spPr>
          <a:xfrm>
            <a:off x="3786120" y="1143000"/>
            <a:ext cx="1357560" cy="642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1"/>
          <p:cNvSpPr/>
          <p:nvPr/>
        </p:nvSpPr>
        <p:spPr>
          <a:xfrm>
            <a:off x="3929040" y="121428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ounded Rectangle 32"/>
          <p:cNvSpPr/>
          <p:nvPr/>
        </p:nvSpPr>
        <p:spPr>
          <a:xfrm>
            <a:off x="4500720" y="3643200"/>
            <a:ext cx="1928520" cy="1928880"/>
          </a:xfrm>
          <a:custGeom>
            <a:avLst/>
            <a:gdLst>
              <a:gd name="textAreaLeft" fmla="*/ 93960 w 1928520"/>
              <a:gd name="textAreaRight" fmla="*/ 1834560 w 1928520"/>
              <a:gd name="textAreaTop" fmla="*/ 93960 h 1928880"/>
              <a:gd name="textAreaBottom" fmla="*/ 1834920 h 1928880"/>
            </a:gdLst>
            <a:ahLst/>
            <a:rect l="textAreaLeft" t="textAreaTop" r="textAreaRight" b="textAreaBottom"/>
            <a:pathLst>
              <a:path w="21600" h="21604">
                <a:moveTo>
                  <a:pt x="3600" y="0"/>
                </a:moveTo>
                <a:arcTo wR="3600" hR="3600" stAng="16200000" swAng="-5400000"/>
                <a:lnTo>
                  <a:pt x="0" y="18004"/>
                </a:lnTo>
                <a:arcTo wR="3600" hR="3600" stAng="10800000" swAng="-5400000"/>
                <a:lnTo>
                  <a:pt x="18000" y="21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36"/>
          <p:cNvSpPr/>
          <p:nvPr/>
        </p:nvSpPr>
        <p:spPr>
          <a:xfrm>
            <a:off x="6786720" y="3643200"/>
            <a:ext cx="1714320" cy="1928880"/>
          </a:xfrm>
          <a:custGeom>
            <a:avLst/>
            <a:gdLst>
              <a:gd name="textAreaLeft" fmla="*/ 83520 w 1714320"/>
              <a:gd name="textAreaRight" fmla="*/ 1630800 w 1714320"/>
              <a:gd name="textAreaTop" fmla="*/ 83520 h 1928880"/>
              <a:gd name="textAreaBottom" fmla="*/ 1845360 h 1928880"/>
            </a:gdLst>
            <a:ahLst/>
            <a:rect l="textAreaLeft" t="textAreaTop" r="textAreaRight" b="textAreaBottom"/>
            <a:pathLst>
              <a:path w="21600" h="24303">
                <a:moveTo>
                  <a:pt x="3600" y="0"/>
                </a:moveTo>
                <a:arcTo wR="3600" hR="3600" stAng="16200000" swAng="-5400000"/>
                <a:lnTo>
                  <a:pt x="0" y="20703"/>
                </a:lnTo>
                <a:arcTo wR="3600" hR="3600" stAng="10800000" swAng="-5400000"/>
                <a:lnTo>
                  <a:pt x="18000" y="24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7"/>
          <p:cNvSpPr/>
          <p:nvPr/>
        </p:nvSpPr>
        <p:spPr>
          <a:xfrm>
            <a:off x="4500720" y="3786120"/>
            <a:ext cx="192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kind of digital skills can be acquired when emphasizing &amp; increasing use of ICT in curric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8"/>
          <p:cNvSpPr/>
          <p:nvPr/>
        </p:nvSpPr>
        <p:spPr>
          <a:xfrm>
            <a:off x="6929280" y="3714840"/>
            <a:ext cx="1500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required in the curriculum to teach necessary digital compet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42"/>
          <p:cNvCxnSpPr/>
          <p:nvPr/>
        </p:nvCxnSpPr>
        <p:spPr>
          <a:xfrm flipH="1">
            <a:off x="1285560" y="2857320"/>
            <a:ext cx="2865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9" name="Rounded Rectangle 43"/>
          <p:cNvSpPr/>
          <p:nvPr/>
        </p:nvSpPr>
        <p:spPr>
          <a:xfrm>
            <a:off x="500040" y="3571920"/>
            <a:ext cx="1500120" cy="2000160"/>
          </a:xfrm>
          <a:custGeom>
            <a:avLst/>
            <a:gdLst>
              <a:gd name="textAreaLeft" fmla="*/ 73080 w 1500120"/>
              <a:gd name="textAreaRight" fmla="*/ 1427040 w 1500120"/>
              <a:gd name="textAreaTop" fmla="*/ 73080 h 2000160"/>
              <a:gd name="textAreaBottom" fmla="*/ 1927080 h 2000160"/>
            </a:gdLst>
            <a:ahLst/>
            <a:rect l="textAreaLeft" t="textAreaTop" r="textAreaRight" b="textAreaBottom"/>
            <a:pathLst>
              <a:path w="21600" h="28798">
                <a:moveTo>
                  <a:pt x="3600" y="0"/>
                </a:moveTo>
                <a:arcTo wR="3600" hR="3600" stAng="16200000" swAng="-5400000"/>
                <a:lnTo>
                  <a:pt x="0" y="25198"/>
                </a:lnTo>
                <a:arcTo wR="3600" hR="3600" stAng="10800000" swAng="-5400000"/>
                <a:lnTo>
                  <a:pt x="18000" y="28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44"/>
          <p:cNvSpPr/>
          <p:nvPr/>
        </p:nvSpPr>
        <p:spPr>
          <a:xfrm>
            <a:off x="2428920" y="3571920"/>
            <a:ext cx="1571760" cy="2000160"/>
          </a:xfrm>
          <a:custGeom>
            <a:avLst/>
            <a:gdLst>
              <a:gd name="textAreaLeft" fmla="*/ 76680 w 1571760"/>
              <a:gd name="textAreaRight" fmla="*/ 1495080 w 1571760"/>
              <a:gd name="textAreaTop" fmla="*/ 76680 h 2000160"/>
              <a:gd name="textAreaBottom" fmla="*/ 1923480 h 2000160"/>
            </a:gdLst>
            <a:ahLst/>
            <a:rect l="textAreaLeft" t="textAreaTop" r="textAreaRight" b="textAreaBottom"/>
            <a:pathLst>
              <a:path w="21600" h="27486">
                <a:moveTo>
                  <a:pt x="3600" y="0"/>
                </a:moveTo>
                <a:arcTo wR="3600" hR="3600" stAng="16200000" swAng="-5400000"/>
                <a:lnTo>
                  <a:pt x="0" y="23886"/>
                </a:lnTo>
                <a:arcTo wR="3600" hR="3600" stAng="10800000" swAng="-5400000"/>
                <a:lnTo>
                  <a:pt x="18000" y="274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Straight Arrow Connector 47"/>
          <p:cNvCxnSpPr/>
          <p:nvPr/>
        </p:nvCxnSpPr>
        <p:spPr>
          <a:xfrm>
            <a:off x="2928960" y="2857680"/>
            <a:ext cx="28656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2" name="TextBox 49"/>
          <p:cNvSpPr/>
          <p:nvPr/>
        </p:nvSpPr>
        <p:spPr>
          <a:xfrm>
            <a:off x="500040" y="3857760"/>
            <a:ext cx="1428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a s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pt, but one which emerges from various backgr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0"/>
          <p:cNvSpPr/>
          <p:nvPr/>
        </p:nvSpPr>
        <p:spPr>
          <a:xfrm>
            <a:off x="2428920" y="3786120"/>
            <a:ext cx="1571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ther it’s a set of skills &amp; attitudes that can be cut up &amp; split across the curric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road versus specific approa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Content Placeholder 3" descr=""/>
          <p:cNvPicPr/>
          <p:nvPr/>
        </p:nvPicPr>
        <p:blipFill>
          <a:blip r:embed="rId1"/>
          <a:stretch/>
        </p:blipFill>
        <p:spPr>
          <a:xfrm>
            <a:off x="341280" y="1249200"/>
            <a:ext cx="8339040" cy="497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CT/digital literacy in the curricul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56760" y="1356840"/>
            <a:ext cx="83012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94"/>
                </a:solidFill>
                <a:latin typeface="Arial"/>
                <a:ea typeface="Arial"/>
              </a:rPr>
              <a:t>ICT should be integrated into various school subjects and for various purp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Diagram 3" descr=""/>
          <p:cNvPicPr/>
          <p:nvPr/>
        </p:nvPicPr>
        <p:blipFill>
          <a:blip r:embed="rId1"/>
          <a:stretch/>
        </p:blipFill>
        <p:spPr>
          <a:xfrm>
            <a:off x="1352520" y="2309760"/>
            <a:ext cx="6175440" cy="43466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 rot="2587800">
            <a:off x="1737000" y="474516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T / DIGITAL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 rot="2548800">
            <a:off x="1683000" y="5560920"/>
            <a:ext cx="18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eed for curriculum chan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Content Placeholder 3" descr=""/>
          <p:cNvPicPr/>
          <p:nvPr/>
        </p:nvPicPr>
        <p:blipFill>
          <a:blip r:embed="rId1"/>
          <a:stretch/>
        </p:blipFill>
        <p:spPr>
          <a:xfrm>
            <a:off x="407880" y="1341360"/>
            <a:ext cx="8328240" cy="480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urther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2876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For a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reference list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full discussion of all academic articles and policy papers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 used as a basis for this visual presentation, please consult the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‘in depth’ answer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associated to this ques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For a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summarized text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version of the above mentioned ‘in depth’ answer, please consult the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‘in short’ answer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associated to this ques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rcRect l="16844" t="35631" r="65033" b="40097"/>
          <a:stretch/>
        </p:blipFill>
        <p:spPr>
          <a:xfrm>
            <a:off x="285840" y="1643040"/>
            <a:ext cx="571320" cy="612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rcRect l="16844" t="35631" r="65033" b="40097"/>
          <a:stretch/>
        </p:blipFill>
        <p:spPr>
          <a:xfrm>
            <a:off x="285840" y="3571920"/>
            <a:ext cx="571320" cy="61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46:21Z</dcterms:created>
  <dc:creator>Gilles</dc:creator>
  <dc:description/>
  <dc:language>en-US</dc:language>
  <cp:lastModifiedBy>caroline</cp:lastModifiedBy>
  <dcterms:modified xsi:type="dcterms:W3CDTF">2011-02-08T09:56:33Z</dcterms:modified>
  <cp:revision>513</cp:revision>
  <dc:subject/>
  <dc:title>Title</dc:title>
</cp:coreProperties>
</file>